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4331-2CA6-4A2C-85A0-C960AD29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1D31-CEAE-4CBC-9222-1615725F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F431-4050-49DA-967B-C872A57F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F804-8CFF-4089-8FA1-7A8AA7BF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527C-6EB5-48B0-B2B8-35F31CEA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8F13-E1AE-4939-BE15-DE969F6D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1C9F-5AD7-4DA5-AE41-EE5C1B08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5362-F43C-4110-9D73-B817D4AB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E0E2-1A99-4987-A7D0-FFB029F8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CDE3-F778-4CE8-84F5-FF84B5F2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CFEF-72F8-4D40-915E-5C03BDC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6B85-F324-4534-84E4-175EEB89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3F91-01A6-43F9-8DF8-DC157BF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4541-A2FB-4CBD-B8E8-47E26C2F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5268-0F03-4598-B2D0-9E0E13A4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89BA-485B-4C8C-B11B-64718078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70A5-E15F-45A7-B451-8178A625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09B7-E8EE-4D95-81A2-C04E2D13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272B1-394C-4E22-A8A8-73287056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F511F-B394-4D21-B2FB-3E68A965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C5A9-FE0E-4B6D-A60C-3C3D8636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D1AB-F2D5-4AD7-92AA-79C48731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B83D9-D957-490B-8537-5AA8FDA6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C1D2-005F-4339-B3C4-E3F0B762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5EF7-3CD5-479B-851E-4E28C6E8C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2A85-AD7A-466A-B54C-865BA5124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the 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Vigen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e than 300 years cryptanalysts worked on the problem of breaking a polyalphabetic cipher (like the V-ciph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3, a Polish Infantry officer, Friedrich W. Kasiski, published a short book (95 pages) which changed the nature of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found a simple solution to the polyalphabet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ed in 1881 without realizing that he had started a revolution in cryptograph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0180-6837-4878-BD4A-DDBA3ABD38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iski’s breakthrough was the observation th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080" y="5610240"/>
            <a:ext cx="70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o, the size of the keyword can be determined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ature of repeated ciphertext character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00040" y="3324240"/>
            <a:ext cx="6573600" cy="1644480"/>
            <a:chOff x="1400040" y="3324240"/>
            <a:chExt cx="6573600" cy="1644480"/>
          </a:xfrm>
        </p:grpSpPr>
        <p:sp>
          <p:nvSpPr>
            <p:cNvPr id="119" name=""/>
            <p:cNvSpPr/>
            <p:nvPr/>
          </p:nvSpPr>
          <p:spPr>
            <a:xfrm>
              <a:off x="1400040" y="3324240"/>
              <a:ext cx="6573600" cy="164448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0360" y="3512880"/>
              <a:ext cx="5896440" cy="1186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conjuction of a repeated por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key with a repetition in the 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duces a repetition in the ciphertex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C0B52-B108-41DB-9403-0B1322F6B4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679040"/>
            <a:ext cx="822960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n the keyword RUN and some plaintex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78040" y="3143160"/>
            <a:ext cx="7588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urier New"/>
              </a:rPr>
              <a:t>R U N R U N R U N R U N R U N R U N R U N R U N R U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 o b e o r n o t t o b e t h a t i s t h e q u e 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Courier New"/>
              </a:rPr>
              <a:t>K I O V I E E I G K I O V N U R N V J N U V K H V M 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71640" y="3998880"/>
            <a:ext cx="3399840" cy="0"/>
            <a:chOff x="971640" y="3998880"/>
            <a:chExt cx="3399840" cy="0"/>
          </a:xfrm>
        </p:grpSpPr>
        <p:sp>
          <p:nvSpPr>
            <p:cNvPr id="127" name=""/>
            <p:cNvSpPr/>
            <p:nvPr/>
          </p:nvSpPr>
          <p:spPr>
            <a:xfrm>
              <a:off x="97164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3836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8880" y="46371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Find repeated 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28880" y="4016520"/>
            <a:ext cx="2485800" cy="305640"/>
            <a:chOff x="1028880" y="4016520"/>
            <a:chExt cx="2485800" cy="305640"/>
          </a:xfrm>
        </p:grpSpPr>
        <p:sp>
          <p:nvSpPr>
            <p:cNvPr id="131" name=""/>
            <p:cNvSpPr/>
            <p:nvPr/>
          </p:nvSpPr>
          <p:spPr>
            <a:xfrm flipV="1">
              <a:off x="10288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146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840" y="4227480"/>
              <a:ext cx="2323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7480" y="401652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9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87440" y="497988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ount the number of characters between the repet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52920" y="3968640"/>
            <a:ext cx="1990440" cy="287280"/>
            <a:chOff x="4552920" y="3968640"/>
            <a:chExt cx="1990440" cy="287280"/>
          </a:xfrm>
        </p:grpSpPr>
        <p:sp>
          <p:nvSpPr>
            <p:cNvPr id="137" name=""/>
            <p:cNvSpPr/>
            <p:nvPr/>
          </p:nvSpPr>
          <p:spPr>
            <a:xfrm>
              <a:off x="4552920" y="398916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81560" y="397044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581360" y="4037040"/>
              <a:ext cx="0" cy="218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48160" y="4007880"/>
              <a:ext cx="0" cy="219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7680" y="4179960"/>
              <a:ext cx="1542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1000" y="396864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6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041480" y="543564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:  each time the key RUNR engages the 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laintext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to be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 the repeated ciphertext KIOV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2A2D-1AD4-4531-A5D6-C0A0B42A95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2000" y="1657440"/>
            <a:ext cx="7272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perform this test automatically – select Kasiski Method under the polyalphabetic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22200" y="2446200"/>
            <a:ext cx="1036800" cy="422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352600" y="2459160"/>
            <a:ext cx="6640560" cy="42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7C8D-6517-46C2-AAE0-DE591378E1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7677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keyword size is known it is possible to discover the 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pies of the target ciphertext in columns where each column is shifted by one position in th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26440" y="456408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low frequency letters (j,k,q,x,z) should have a combined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about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26080" y="540216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column in which these letters appear more frequently is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7880" y="593100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olumn with the correct frequency is a candidate for the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3E755-109A-4FC9-A1F3-478CE9FE4D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1360" y="1604880"/>
            <a:ext cx="7155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provides a low frequency analysis t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74760" y="2262240"/>
            <a:ext cx="1049400" cy="4278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728800" y="2262240"/>
            <a:ext cx="5985000" cy="419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70080" y="3527280"/>
            <a:ext cx="1074600" cy="398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5AB1-6CB4-4D35-BD7A-1030F0DA05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2T02:16:52Z</dcterms:modified>
  <cp:revision>58</cp:revision>
  <dc:subject/>
  <dc:title>CAP Cryptographic Analysis Program</dc:title>
</cp:coreProperties>
</file>